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CA8-FBD6-4940-8852-FE8012FC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FC5-C194-46D8-AE72-FFD95E05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4F6-5ABA-48B2-927A-793EB13B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7DA-5BB2-41AE-BA54-DB21174E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57BA-C549-4F02-A277-F26C08CB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F1F4-6ED4-4B16-9B56-05DE1D21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AE60-36C0-430B-8D1A-2EC17DB8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118F-A35A-46CB-A52C-F0E0DB5B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8665-833A-4891-8C0E-C472A9C1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2CB9-F99C-4198-8A9B-14C710D7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AB7B-7D5B-4283-87D8-2A72ADCE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42A-20E0-43E5-AA36-EFB20DAB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C6D5-B1D8-4815-B616-54083A48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70DB-62E8-485F-8E30-A760536C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DAAA-2DBA-4933-A1BF-5D570473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8351-56E6-49F4-8670-D9E89821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A5B5-CE7B-47DC-9C05-1D3905ED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279-5EAE-430B-8175-0DC12BB8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5ED-12F8-449D-B791-4D5156A2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EB5-A68B-45EC-AC31-9163DC5A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B88-044A-43FE-83F8-DE724441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370-7862-469C-BA8D-3CA83B74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956-FA45-4633-8350-EDAF8816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3CD-7D61-4304-AF30-328F4A63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0FAE-4DE7-4ED2-880C-4344C5EB08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20E8-B550-40C1-8482-2C0FE0852A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8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20000"/>
                </a:solidFill>
                <a:latin typeface="Times New Roman"/>
              </a:rPr>
              <a:t>Vincent Willem </a:t>
            </a:r>
            <a:r>
              <a:rPr b="1" lang="tr-TR" sz="4800" spc="-1" strike="noStrike">
                <a:solidFill>
                  <a:srgbClr val="420000"/>
                </a:solidFill>
                <a:latin typeface="Times New Roman"/>
              </a:rPr>
              <a:t>V</a:t>
            </a:r>
            <a:r>
              <a:rPr b="1" lang="en-US" sz="4800" spc="-1" strike="noStrike">
                <a:solidFill>
                  <a:srgbClr val="420000"/>
                </a:solidFill>
                <a:latin typeface="Times New Roman"/>
              </a:rPr>
              <a:t>an Gogh</a:t>
            </a: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Picture 4" descr="220px-Vincent_van_gogh_01(2)"/>
          <p:cNvPicPr/>
          <p:nvPr/>
        </p:nvPicPr>
        <p:blipFill>
          <a:blip r:embed="rId1"/>
          <a:stretch/>
        </p:blipFill>
        <p:spPr>
          <a:xfrm>
            <a:off x="3419640" y="981000"/>
            <a:ext cx="20952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ri </a:t>
            </a: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tunati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imo Amore: suo cugino 7 anni piu di l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 ricevuto rifiuto da 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ostituta: Sien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lasina Maria Hoornik 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la pressione della famig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Figlia del vicin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Margot Begeman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 tentato il suicidio a causa della loro genitori si oppone al loro matrimo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rdina De Gro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sere responsabile della gravidanza di una raga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ostituta Sien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lasina Maria Hoornik 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1" name="Picture 4" descr="220px-Vincent_Van_Gogh_-_Sorrow"/>
          <p:cNvPicPr/>
          <p:nvPr/>
        </p:nvPicPr>
        <p:blipFill>
          <a:blip r:embed="rId1"/>
          <a:stretch/>
        </p:blipFill>
        <p:spPr>
          <a:xfrm>
            <a:off x="2484360" y="1773360"/>
            <a:ext cx="3541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20000"/>
                </a:solidFill>
                <a:latin typeface="Times New Roman"/>
              </a:rPr>
              <a:t>I mangiatori di patate</a:t>
            </a: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tr-TR" sz="3600" spc="-1" strike="noStrike">
                <a:solidFill>
                  <a:srgbClr val="420000"/>
                </a:solidFill>
                <a:latin typeface="Times New Roman"/>
              </a:rPr>
              <a:t>primo famoso quadro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1720" y="5936760"/>
            <a:ext cx="792792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Van Gog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ho voluto, lavorando, far capire che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esta povera gente, che alla luce di una lampada mangia patate servendosi dal piatto con le m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280px-Vincent_Van_Gogh_-_The_Potato_Eaters (1)"/>
          <p:cNvPicPr/>
          <p:nvPr/>
        </p:nvPicPr>
        <p:blipFill>
          <a:blip r:embed="rId1"/>
          <a:stretch/>
        </p:blipFill>
        <p:spPr>
          <a:xfrm>
            <a:off x="1908000" y="1916280"/>
            <a:ext cx="5185080" cy="3666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675720" y="5589720"/>
            <a:ext cx="7391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Times New Roman"/>
              </a:rPr>
              <a:t>Nuenen ve Anvers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 cui lui utilizzati colori naturali e scuri nei suoi quad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Paul Gaugin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che il su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migliore amico pit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La Casa Gialla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Han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vissutto insieme per un po’</a:t>
            </a: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300px-Paul_Gauguin_104"/>
          <p:cNvPicPr/>
          <p:nvPr/>
        </p:nvPicPr>
        <p:blipFill>
          <a:blip r:embed="rId1"/>
          <a:stretch/>
        </p:blipFill>
        <p:spPr>
          <a:xfrm>
            <a:off x="5651640" y="1773360"/>
            <a:ext cx="2663640" cy="213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80px-WLANL_-_Pachango_-_Het_gele_huis_('De_straat'),_Vincent_van_Gogh_(1888)"/>
          <p:cNvPicPr/>
          <p:nvPr/>
        </p:nvPicPr>
        <p:blipFill>
          <a:blip r:embed="rId2"/>
          <a:stretch/>
        </p:blipFill>
        <p:spPr>
          <a:xfrm>
            <a:off x="1187280" y="4149720"/>
            <a:ext cx="295308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1688040" y="836640"/>
            <a:ext cx="53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Biografia di Van Go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240px-Vincent_Willem_van_Gogh_128"/>
          <p:cNvPicPr/>
          <p:nvPr/>
        </p:nvPicPr>
        <p:blipFill>
          <a:blip r:embed="rId3"/>
          <a:stretch/>
        </p:blipFill>
        <p:spPr>
          <a:xfrm>
            <a:off x="5796000" y="3940200"/>
            <a:ext cx="2184480" cy="2728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716360" y="1844640"/>
            <a:ext cx="9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ul Gauguin: Ritratto di Van Go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639680" y="6284880"/>
            <a:ext cx="19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so di girasol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Biografia di Van Gog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126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rammatico conflitto </a:t>
            </a: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rensioni e divergenze di opinione tra le apparve e le sue phsycology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ior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o aver capito che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Ga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st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ando l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sciarlo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tagliò metà dell'orecchio sinistro, lo incartò, lo consegnò a Rachele, una prostitut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Ospedal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'stato ricoverato in ospedale a causa della perdita di sangue e la depressionement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i di nuovo, di nuovo in ospedale a causa elle allucinazioni e paranoia.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a delle pressioni dell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, finalmente pose in un ospedale psichiatrico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Saint-Rémy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Notte Stella :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 che dipinse in ospedale mental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 subito un sequestro e mangiato il suo verni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Genio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rivista francesa ha detto Genio parlava di lu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'esecuzione è vigorosa, esaltata,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tale, inten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280px-VanGogh-starry_night_ballance1"/>
          <p:cNvPicPr/>
          <p:nvPr/>
        </p:nvPicPr>
        <p:blipFill>
          <a:blip r:embed="rId1"/>
          <a:stretch/>
        </p:blipFill>
        <p:spPr>
          <a:xfrm>
            <a:off x="1042920" y="3500280"/>
            <a:ext cx="324000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Auvers-sur-Oise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Times New Roman"/>
              </a:rPr>
              <a:t>Dr. Paul Gache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 suo secondo medico in un altro ospedale psichiatrico. Lodipinse tre vol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Pistola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è sparato con una pistola dal suo pet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220px-Portrait_of_Dr"/>
          <p:cNvPicPr/>
          <p:nvPr/>
        </p:nvPicPr>
        <p:blipFill>
          <a:blip r:embed="rId1"/>
          <a:stretch/>
        </p:blipFill>
        <p:spPr>
          <a:xfrm>
            <a:off x="1332000" y="3573360"/>
            <a:ext cx="245412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450px-Vincent_van_Gogh_(1853-1890)_-_Wheat_Field_with_Crows_(1890)"/>
          <p:cNvPicPr/>
          <p:nvPr/>
        </p:nvPicPr>
        <p:blipFill>
          <a:blip r:embed="rId2"/>
          <a:stretch/>
        </p:blipFill>
        <p:spPr>
          <a:xfrm>
            <a:off x="4140360" y="3860640"/>
            <a:ext cx="3871800" cy="1819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918960" y="5950080"/>
            <a:ext cx="45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mpo di grano con volo di corv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olio su tel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Misteri della sua malatt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 dottor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no diagnosticato per la loro malattia più di 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izofrenia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ressione maniacal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filid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nice avvelenamento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attia di Menier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po di calo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 usando troppo colore giallo nei suoi dipinti nei suoi ultimi anni. Così hanno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ato che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urbo medi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potrebbe essere un motivo per questo o per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etto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la v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potrebbe essere una delle ragioni perché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nzio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-absinth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vuto molto e lo faceva vedere appassionato di tu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7:31Z</dcterms:created>
  <dc:creator>melis</dc:creator>
  <dc:description/>
  <dc:language>en-US</dc:language>
  <cp:lastModifiedBy>sandr</cp:lastModifiedBy>
  <dcterms:modified xsi:type="dcterms:W3CDTF">2011-11-14T12:26:54Z</dcterms:modified>
  <cp:revision>4</cp:revision>
  <dc:subject/>
  <dc:title>Slayt 1</dc:title>
</cp:coreProperties>
</file>